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BF673-B0A7-4E3F-80B4-B58E4A503E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2BB72-7438-49D0-AFFB-8469101A64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9CC0C-A2AB-4523-AA8D-5B634520B3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63BFD-5DF7-45D0-8BCF-5167F135BD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EA56C-6E3C-41B8-B305-E214136365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99708-1EF0-4070-87ED-1C0FC31A6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90D60-C1B3-482A-8809-9B1820928F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36B3A-AE0D-42D0-A9B8-DE189B7AC5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2D4BD-78A8-48FA-9500-7C16068C3F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CB81C-CA4C-4870-9FF1-12273A7E10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ABA20-A73F-4328-A729-931CE000FC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4EBAA-EA2D-40DB-89E7-D0CB060536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826EC-7199-472A-A11C-2395774D81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57FB3-58B3-4AEE-8C65-509003E392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CC3CC-4293-482A-88C6-6E3F1A1245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836AC-E05D-4B51-BFD0-A6A9F57EC9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E88-2C3F-4BE3-9627-F7D12F3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0CD-C535-4A77-9AC8-0EC5D9D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CD34-C471-4007-BAA7-198F223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3B3D-E860-4288-91D0-D2EDE97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BDB0-0D4D-4FC0-9C61-F76B4C7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862C-6CB0-4E17-A827-1721DEF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4576-202A-41A7-89D0-341ABA4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413C-95BC-4D0E-9C57-3DFCF82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636B-4635-45AD-ABA8-78BF9C3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DEFC-F854-46B8-AAF0-03D7FBB9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6E63-CC42-49BA-96D2-97D009F9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C03-BFB9-4898-BFE6-A316EBFC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B07-74AD-4D3D-B521-8366915B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877-427D-4C99-9987-07F8D174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6EF-FF06-41D2-B2FC-05437C8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F4D-76B4-4B70-9074-977E502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C8C-C337-4CD6-BE37-2BABCBE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B57-4754-4D08-AE30-82A0519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E522-1E83-4EC6-867D-78D5C82E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56A1-0615-4774-BBD7-A1EA50B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2241-1279-475B-AABF-D441595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54F5-9573-4E12-99C8-727F16BC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BD40-26C5-44DB-A683-9C2054CB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53C3-DC9E-4088-992D-B1C95F81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23B7-542A-452D-9E34-EF0CA5D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4C4-09A6-4005-81FE-B0FB79F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97B-B742-4EBD-8AF0-8A75493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3C4-31F7-412B-93B0-6176325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D6C-10DC-42A8-9D6D-7072F43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C638-329A-4BC0-A9E8-9F34D9BA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235-272D-48C3-9E4C-8290B15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D613-EA0A-4F96-B2F9-C4D8D742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3A0E-A3ED-43C2-B93B-15CA7A67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B707-CA55-44B2-83AC-C1EB5343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3422-76F0-4DDB-954A-9EAA9B54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33B8-F3D5-4FAF-BF58-17B31FE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2C70-3BD9-45A4-B2FF-67AB4BC9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F771-E989-4437-9983-8046822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AB6-E411-4ECC-9A88-619BBC0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351F-6372-4BB6-A965-9C7F118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622C-3B0E-4E3C-B67A-8305991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A2AF-544A-4234-A8FD-045A6BA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C41D-4DC6-41EF-819D-42C2088D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108B-50FE-42EB-BB33-B71E13ED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358F-3B17-4015-B105-FE93A06C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41DC-31D7-489F-A5AF-1EF9D60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D7CF-D983-4F6F-9BFA-380D388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BAE1-3A99-4081-80B6-F51B9569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66B8-F0A4-404B-A958-C54F4E1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7E5-B74D-4919-80AF-51FE73B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C9AF-2683-4E6C-9469-D8D4DC4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55B7-56D5-488A-B49A-792B131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B758-CBF5-444D-8D17-60B4FAD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5B7F-B35E-440F-967D-FCB03D3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DAF5-83A8-48F3-AAD0-3F0858ED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BCD7-9FFA-48C1-8053-20B276DE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6C86-4EB4-4EB1-B06D-41AC5F81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83F9-BC06-40AD-AD44-9C8B3088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2BAB-EE43-4498-AEA5-58F4A81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A360F-556A-4B14-A7AE-7AE06224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9A848-110A-4290-8F90-6CF19F277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2B028BD2-C723-478F-86F1-52200AC4B97A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44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0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6" descr="imgae.tiff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Sous-titre 2"/>
          <p:cNvSpPr/>
          <p:nvPr/>
        </p:nvSpPr>
        <p:spPr>
          <a:xfrm>
            <a:off x="2158920" y="50734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Programme National de Pilo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Lyon – 10 &amp; 11 mai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E:\Mes docs\DD_Paris\AL\2010_2011\BTS_SIO\MENJVA_LOGO_Q.gif"/>
          <p:cNvPicPr/>
          <p:nvPr/>
        </p:nvPicPr>
        <p:blipFill>
          <a:blip r:embed="rId3"/>
          <a:stretch/>
        </p:blipFill>
        <p:spPr>
          <a:xfrm>
            <a:off x="7651800" y="176040"/>
            <a:ext cx="1206360" cy="1114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E4DD18D9-FF34-43DF-B09A-38C03C8E05BB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144" name="Rectangle 9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8BED6A1F-CB7E-4F57-96BA-28A3E9C28403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203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0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26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AAFC3-DDCC-49F8-B2F2-6B0918749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32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34868-BFA2-449A-9843-7D84D5A59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38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C62BB-FD91-41AF-9F92-96272A2F3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44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D649C-5ECA-449F-A4E2-9D89AE332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54240" y="2130120"/>
            <a:ext cx="6711840" cy="1469880"/>
          </a:xfrm>
          <a:prstGeom prst="rect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Un atelier rédactionnel en seconde professionnelle gestion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53880" y="3795480"/>
            <a:ext cx="66229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Bac Professionnel Gestion-Administration</a:t>
            </a:r>
            <a:br>
              <a:rPr sz="2400"/>
            </a:b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Guide d’accompagnement pédagog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7651800" y="176040"/>
            <a:ext cx="120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64072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c00000"/>
                </a:solidFill>
                <a:latin typeface="Arial Black"/>
                <a:ea typeface="Arial"/>
              </a:rPr>
              <a:t>La première reform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000" y="1125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68360" y="1052640"/>
          <a:ext cx="8280360" cy="5244840"/>
        </p:xfrm>
        <a:graphic>
          <a:graphicData uri="http://schemas.openxmlformats.org/drawingml/2006/table">
            <a:tbl>
              <a:tblPr/>
              <a:tblGrid>
                <a:gridCol w="2185920"/>
                <a:gridCol w="3236760"/>
                <a:gridCol w="2857680"/>
              </a:tblGrid>
              <a:tr h="21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REPR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Ets LEN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se de l’appel par 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Mme A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tinat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Gilles ROU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Responsable du secteur Giro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e et heure de l’app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12.03.2012. 10h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el de 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M. GARROUSTE (particuli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él :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05 57 36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resse 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6 rue des Min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33 GRADIG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t 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-Client éventuel pour achat et installation extracteur fumées 4RT5  vu sur un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-Veut savoir si l’extracteur peut être utilisé à l’intérieur d’un ga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marques 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-téléphoner </a:t>
                      </a:r>
                      <a:r>
                        <a:rPr b="1" lang="fr-FR" sz="2000" spc="-1" strike="noStrike">
                          <a:solidFill>
                            <a:srgbClr val="ff0000"/>
                          </a:solidFill>
                          <a:latin typeface="Bradley Hand ITC"/>
                          <a:ea typeface="Calibri"/>
                        </a:rPr>
                        <a:t>(URG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-</a:t>
                      </a:r>
                      <a:r>
                        <a:rPr b="1" lang="fr-FR" sz="20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  <a:ea typeface="Calibri"/>
                        </a:rPr>
                        <a:t>Ne pas appeler en soiré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radley Hand ITC"/>
                          <a:ea typeface="Calibri"/>
                        </a:rPr>
                        <a:t>-Commandera si le prix lui conv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6756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 Black"/>
                <a:ea typeface="Arial"/>
              </a:rPr>
              <a:t>Reformulation 1.</a:t>
            </a: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Arial Black"/>
                <a:ea typeface="Arial"/>
              </a:rPr>
              <a:t>Procédés d’écri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280" y="1305000"/>
            <a:ext cx="86947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a sélection et l’organisation des information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respecte la charte graphique et les entrées du docu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 lexique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mots écrits intégralement, ajou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s phrase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en partie tronquées. Suppression des déterminants, des pronoms-reprises, de verbes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s caractères des lettre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majuscules pour les noms prop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s signes typographique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fr-FR" sz="2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(…)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explicitation; tirets pour l’énumé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s signes de ponctuation </a:t>
            </a:r>
            <a:r>
              <a:rPr b="0" lang="fr-FR" sz="2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: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 (explication), le point pour la fin des phra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Autres procédés visuel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couleur, souligne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Arial Black"/>
                <a:ea typeface="Arial"/>
              </a:rPr>
              <a:t>La seconde re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22240" y="1417320"/>
            <a:ext cx="7521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NTREPRISE  LEN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pel de :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M. GARROUSTE (05 57 36 56 00) 6 rue des Minimes 33 GRADIGN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te :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12 mars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eure :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10h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pris par :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Mme Alice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estiné à :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Gilles Rouget, responsable du secteur Giro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bjet de l’appel 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: Commande et installation d’un extracteur de fum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5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ntenu du message : 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M. Garrouste (particulier) a vu sur un site l’extracteur de fumées 4RT5. Il souhaite qu’un  « spécialiste » le rappelle de toute urgence au 05 57 36 56 00.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Il demande si cet extracteur peut capter les fumées d’un barbecue installé  dans un garage</a:t>
            </a:r>
            <a:r>
              <a:rPr b="1" lang="fr-FR" sz="1800" spc="-1" strike="noStrike">
                <a:solidFill>
                  <a:srgbClr val="000000"/>
                </a:solidFill>
                <a:latin typeface="Bradley Hand ITC"/>
                <a:ea typeface="Arial"/>
              </a:rPr>
              <a:t>. Si le prix de l’installation lui convient, il commandera le produit.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Il a précisé qu’il  ne voulait surtout pas être appelé en soiré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856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 Black"/>
                <a:ea typeface="Arial"/>
              </a:rPr>
              <a:t>Reformulation 2. Procédés d’écri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560" y="1182240"/>
            <a:ext cx="88167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a mise en page du texte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définie par la charte graphique du document professionnel (fiche-mess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’organisation et le contenu des information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respectent les entrées du document, ajout d’autres inform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 lexique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mots écrits intégralement éventuellement modifi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phrase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respectent les contraintes de la syntaxe: déterminants, pronoms, GN sujet, verbes conjugués… Phrases nominales et verb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caractères des lettre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majuscules pour les noms prop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signes typographiques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(…)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explicitation. éventuellement, tirets ou puces pour l’énumé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signes de ponctuation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: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(explication), le point pour la fin des phr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utres procédés d’écriture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les discours rapporté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826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Arial Black"/>
              </a:rPr>
              <a:t>Confront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2688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c00000"/>
                </a:solidFill>
                <a:latin typeface="Calibri"/>
              </a:rPr>
              <a:t>Prise de no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2060"/>
                </a:solidFill>
                <a:latin typeface="Calibri"/>
              </a:rPr>
              <a:t>M. GARROUSTE (part.) dde infos : nvel extracteur fumées 4RT5 (vu sur sit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c00000"/>
                </a:solidFill>
                <a:latin typeface="Calibri"/>
              </a:rPr>
              <a:t>•  </a:t>
            </a:r>
            <a:r>
              <a:rPr b="1" lang="fr-FR" sz="2600" spc="-1" strike="noStrike">
                <a:solidFill>
                  <a:srgbClr val="c00000"/>
                </a:solidFill>
                <a:latin typeface="Calibri"/>
              </a:rPr>
              <a:t>Reformulation 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2060"/>
                </a:solidFill>
                <a:latin typeface="Calibri"/>
              </a:rPr>
              <a:t>Appel de : M. GARROUSTE (particulier).  Client éventuel pour achat et installation extracteur fumées 4RT5  vu sur un si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c00000"/>
                </a:solidFill>
                <a:latin typeface="Calibri"/>
              </a:rPr>
              <a:t>Reformulation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2060"/>
                </a:solidFill>
                <a:latin typeface="Calibri"/>
              </a:rPr>
              <a:t>M. Garrouste (particulier) a vu sur un site l’extracteur de fumées 4RT5. Il souhaite qu’un  « spécialiste » le rappelle de toute urgence au 05 57 36 56 00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209520"/>
            <a:ext cx="8370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Arial Black"/>
                <a:ea typeface="Arial"/>
              </a:rPr>
              <a:t>Les discours rappor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640" y="1125360"/>
            <a:ext cx="829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es discours rapportés sous forme de citation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Il  souhaite qu’un </a:t>
            </a:r>
            <a:r>
              <a:rPr b="0" i="1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« spécialiste »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 rappelle.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(guillemets) + </a:t>
            </a:r>
            <a:r>
              <a:rPr b="0" i="1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(sic), éventuelle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es discours rapportés au style indirect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. 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pour rapporter indirectement un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lI </a:t>
            </a:r>
            <a:r>
              <a:rPr b="0" i="1" lang="fr-FR" sz="22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demande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fr-FR" sz="2200" spc="-1" strike="noStrike">
                <a:solidFill>
                  <a:srgbClr val="0070c0"/>
                </a:solidFill>
                <a:latin typeface="Arial"/>
                <a:ea typeface="Arial"/>
              </a:rPr>
              <a:t>si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cet extracteur </a:t>
            </a:r>
            <a:r>
              <a:rPr b="0" i="1" lang="fr-FR" sz="22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peut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 être installé  dans un gara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- Proposition principale avec verbe de pa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Arial"/>
                <a:ea typeface="Arial"/>
              </a:rPr>
              <a:t>- Conjonction qui introduit une proposition subordonné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- Proposition subordonnée interrogative indirecte (question fermée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Arial Black"/>
                <a:ea typeface="Arial"/>
              </a:rPr>
              <a:t>Les discours rapportés (sui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03000" y="1099800"/>
            <a:ext cx="823572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b. 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Pour rapporter indirectement une affi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Proposition principale avec verbe de pa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- Conjonction introduisant une subordonn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Proposition subordonnée complétive du ver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Il </a:t>
            </a:r>
            <a:r>
              <a:rPr b="0" i="1" lang="fr-FR" sz="22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a précisé </a:t>
            </a:r>
            <a:r>
              <a:rPr b="0" i="1" lang="fr-FR" sz="2200" spc="-1" strike="noStrike">
                <a:solidFill>
                  <a:srgbClr val="0070c0"/>
                </a:solidFill>
                <a:latin typeface="Arial"/>
                <a:ea typeface="Arial"/>
              </a:rPr>
              <a:t>qu’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il  ne </a:t>
            </a:r>
            <a:r>
              <a:rPr b="0" i="1" lang="fr-FR" sz="22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voulait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surtout pas être appel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c. 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a concordance des temps (exemp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La simultané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Phrase 1a : 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verbe de la principale au présent </a:t>
            </a:r>
            <a:br>
              <a:rPr sz="2200"/>
            </a:b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→  verbe de la subordonnée au prés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Phrase 2a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  verbe de la principale au passé (passé composé) </a:t>
            </a:r>
            <a:br>
              <a:rPr sz="2200"/>
            </a:b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→  verbe de la subordonnée au passé (imparfai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Arial Black"/>
                <a:ea typeface="Arial"/>
              </a:rPr>
              <a:t>Les discours rapportés (sui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c. 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a concordance des tem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L’antérior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M. G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demande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si Mme A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a pu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C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contacter un spécialis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M. G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a demandé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C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si Mme A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avait pu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QP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appeler un spécialis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La postérior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M. G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demande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si un spécialiste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pourra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F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/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pourrait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C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 rappeler en fin d’après-m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M. G.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a demandé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PCI)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si un spécialiste  </a:t>
            </a:r>
            <a:r>
              <a:rPr b="0" i="1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aura pu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(FAI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) appeler son épouse dans l’après-mid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52320" y="1444320"/>
            <a:ext cx="391968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 Black"/>
                <a:ea typeface="Arial"/>
              </a:rPr>
              <a:t>La prise de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C’est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un écrit pour soi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produit « en simultané »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qui retranscrit des propos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de manière abrégée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en utilisant un code d’abréviations normé </a:t>
            </a:r>
            <a:r>
              <a:rPr b="0" lang="fr-FR" sz="1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et</a:t>
            </a: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 plus personnel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sans contraintes de charte graphiqu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19320" y="1457280"/>
            <a:ext cx="415764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 Black"/>
                <a:ea typeface="Arial"/>
              </a:rPr>
              <a:t>La refor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C’est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un écrit pour l’autre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produit « en  différé »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qui reformule des prop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de manière « intégrale »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en respectant le code du français courant (Orth. Gram. Synt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900" spc="-1" strike="noStrike">
                <a:solidFill>
                  <a:srgbClr val="002060"/>
                </a:solidFill>
                <a:latin typeface="Arial"/>
                <a:ea typeface="Arial"/>
              </a:rPr>
              <a:t>avec les contraintes d’une charte graphique influant sur la lecture et l’écritur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65040"/>
            <a:ext cx="8353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Arial Black"/>
                <a:ea typeface="Arial"/>
              </a:rPr>
              <a:t>En conclusion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10"/>
          <p:cNvSpPr/>
          <p:nvPr/>
        </p:nvSpPr>
        <p:spPr>
          <a:xfrm>
            <a:off x="384120" y="537228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fin de rendre compte </a:t>
            </a:r>
            <a:r>
              <a:rPr b="1" i="1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fidèlement</a:t>
            </a:r>
            <a:r>
              <a:rPr b="1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i="1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isiblement</a:t>
            </a:r>
            <a:r>
              <a:rPr b="1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et </a:t>
            </a:r>
            <a:r>
              <a:rPr b="1" i="1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correctement</a:t>
            </a:r>
            <a:r>
              <a:rPr b="1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 d’informations structurées et hiérarchisées </a:t>
            </a:r>
            <a:br>
              <a:rPr sz="2000"/>
            </a:br>
            <a:r>
              <a:rPr b="1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utiles pour les professionnels de l’entrepri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onnecteur droit 2"/>
          <p:cNvSpPr/>
          <p:nvPr/>
        </p:nvSpPr>
        <p:spPr>
          <a:xfrm>
            <a:off x="4643280" y="1514520"/>
            <a:ext cx="0" cy="326556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e 6"/>
          <p:cNvGrpSpPr/>
          <p:nvPr/>
        </p:nvGrpSpPr>
        <p:grpSpPr>
          <a:xfrm>
            <a:off x="209520" y="6507000"/>
            <a:ext cx="8764560" cy="468000"/>
            <a:chOff x="209520" y="6507000"/>
            <a:chExt cx="8764560" cy="468000"/>
          </a:xfrm>
        </p:grpSpPr>
        <p:sp>
          <p:nvSpPr>
            <p:cNvPr id="556" name="ZoneTexte 11"/>
            <p:cNvSpPr/>
            <p:nvPr/>
          </p:nvSpPr>
          <p:spPr>
            <a:xfrm>
              <a:off x="209520" y="6516000"/>
              <a:ext cx="876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012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PNP Bac Pro Gestion-Administration – 10 et 11 mai 2012 – Lyon </a:t>
              </a: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	</a:t>
              </a:r>
              <a:fld id="{75E639DD-1D44-4B5E-AB7A-49E59A6D66E6}" type="slidenum">
                <a:rPr b="1" lang="fr-FR" sz="1200" spc="-1" strike="noStrike">
                  <a:solidFill>
                    <a:srgbClr val="c0504d"/>
                  </a:solidFill>
                  <a:latin typeface="Calibri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Ellipse 12"/>
            <p:cNvSpPr/>
            <p:nvPr/>
          </p:nvSpPr>
          <p:spPr>
            <a:xfrm>
              <a:off x="8439120" y="6507000"/>
              <a:ext cx="387360" cy="339840"/>
            </a:xfrm>
            <a:prstGeom prst="ellipse">
              <a:avLst/>
            </a:prstGeom>
            <a:noFill/>
            <a:ln w="25560">
              <a:solidFill>
                <a:srgbClr val="7d86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De la </a:t>
            </a:r>
            <a:r>
              <a:rPr b="0" lang="fr-FR" sz="3600" spc="-1" strike="noStrike" u="sng">
                <a:solidFill>
                  <a:srgbClr val="c00000"/>
                </a:solidFill>
                <a:uFillTx/>
                <a:latin typeface="Arial Black"/>
              </a:rPr>
              <a:t>prise de notes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 d’un échange téléphon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à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sa </a:t>
            </a:r>
            <a:r>
              <a:rPr b="0" lang="fr-FR" sz="3600" spc="-1" strike="noStrike" u="sng">
                <a:solidFill>
                  <a:srgbClr val="c00000"/>
                </a:solidFill>
                <a:uFillTx/>
                <a:latin typeface="Arial Black"/>
              </a:rPr>
              <a:t>reformulation écrite</a:t>
            </a: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sur des documents professionn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. Deconinck (IEN  EG), M. Sendre (IEN L), I. Vallot (IEN E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68040" y="404640"/>
            <a:ext cx="7821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ÔLE 3 GESTION ADMINISTRATIVE INTER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Classe 3.1. Gestion des inform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3.1.2. Production d’informations structur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Arial"/>
                <a:ea typeface="Arial"/>
              </a:rPr>
              <a:t>Savoirs rédactionnels - Lecture et écriture d’un gen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LE DOCU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- Procédés d’écri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a 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eformulation à partir d’une prise de notes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, d’un brouillon, ou d'écrits intermédiair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’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organisation et la hiérarchisation des inform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es renvois et les no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a 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conformité du document à une charte graphiq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a 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ypograph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’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écriture des nomb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’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insertion des nombres dans un tex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es 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ègles orthographiques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 et la </a:t>
            </a:r>
            <a:r>
              <a:rPr b="1" lang="fr-FR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syntaxe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 dans les documents professionn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e 3"/>
          <p:cNvGrpSpPr/>
          <p:nvPr/>
        </p:nvGrpSpPr>
        <p:grpSpPr>
          <a:xfrm>
            <a:off x="209520" y="6507000"/>
            <a:ext cx="8764560" cy="468000"/>
            <a:chOff x="209520" y="6507000"/>
            <a:chExt cx="8764560" cy="468000"/>
          </a:xfrm>
        </p:grpSpPr>
        <p:sp>
          <p:nvSpPr>
            <p:cNvPr id="512" name="ZoneTexte 5"/>
            <p:cNvSpPr/>
            <p:nvPr/>
          </p:nvSpPr>
          <p:spPr>
            <a:xfrm>
              <a:off x="209520" y="6516000"/>
              <a:ext cx="876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012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PNP Bac Pro Gestion-Administration – 10 et 11 mai 2012 – Lyon </a:t>
              </a: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	</a:t>
              </a:r>
              <a:fld id="{CBE09CBF-47F4-4E26-8A28-CF020AE920F9}" type="slidenum">
                <a:rPr b="1" lang="fr-FR" sz="1200" spc="-1" strike="noStrike">
                  <a:solidFill>
                    <a:srgbClr val="c0504d"/>
                  </a:solidFill>
                  <a:latin typeface="Calibri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Ellipse 6"/>
            <p:cNvSpPr/>
            <p:nvPr/>
          </p:nvSpPr>
          <p:spPr>
            <a:xfrm>
              <a:off x="8439120" y="6507000"/>
              <a:ext cx="387360" cy="339840"/>
            </a:xfrm>
            <a:prstGeom prst="ellipse">
              <a:avLst/>
            </a:prstGeom>
            <a:noFill/>
            <a:ln w="25560">
              <a:solidFill>
                <a:srgbClr val="7d86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772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 Black"/>
                <a:ea typeface="Arial"/>
              </a:rPr>
              <a:t>Le scénario pédagogique de l’ate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311120"/>
            <a:ext cx="8477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0504d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Un particulier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. GARROUSTE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 (le professeur GA), appel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’entreprise « LENORD » 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au sujet d’un extracteur de fumée vu sur un si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0504d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La gestionnaire-administrative, Mme ALICE (le professeur de français ) lui répond et prend en notes la communication téléphoniqu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0504d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Durant la conversation, M. Garrouste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précise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la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éférence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du produit: 4RT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veut qu’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 SPECIALISTE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de l’entreprise le rappelle de toute urgence </a:t>
            </a:r>
            <a:br>
              <a:rPr sz="1600"/>
            </a:b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au 05 57 36 56 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mande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si le capteur fonctionne pour « un barbecue intérieur garage 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commandera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l’extracteur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si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le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prix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de l’installation lui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convient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nne son adresse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: Draguignan (33), 6 rue des Minime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buClr>
                <a:srgbClr val="c0504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it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qu’il ne veut absolument pas être appelé le soir chez 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0504d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  <a:ea typeface="Arial"/>
              </a:rPr>
              <a:t>Mme Alice complète deux documents professionnels différents pour reformuler le message téléphonique qu’elle destine à Mr ROUGET, le « spécialiste 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4247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 Black"/>
              </a:rPr>
              <a:t>Les étapes de l’atelier rédac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6600" y="1544760"/>
            <a:ext cx="8307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Jeu de rôle.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Professeurs GA/Français à partir du scénario pédagogique. 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(Co-anim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Analyse des trois écrits professionnels : </a:t>
            </a:r>
            <a:r>
              <a:rPr b="0" lang="fr-FR" sz="2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a prise de note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et les reformulations sur </a:t>
            </a:r>
            <a:r>
              <a:rPr b="0" lang="fr-FR" sz="22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ux documents professionnels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(Co-animation ou animation par le professeur de frança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Etude d’un fait de langue particulier :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les modalités des </a:t>
            </a:r>
            <a:r>
              <a:rPr b="0" i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discours rapportés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dans la prise de notes et la reformulation d’un message oral. 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(Animation par le professeur de frança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c0504d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Production et évaluation des élèves : 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  <a:ea typeface="Arial"/>
              </a:rPr>
              <a:t>mêmes types d’écrits dans des conditions similaires ou voisines. 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  <a:ea typeface="Arial"/>
              </a:rPr>
              <a:t>(Co-préparation et co-évalu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0360" y="1234800"/>
            <a:ext cx="42498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1.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a prise de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 partir d’un oral, en « direc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Qui parle à qui ? </a:t>
            </a:r>
            <a:br>
              <a:rPr sz="1600"/>
            </a:br>
            <a:r>
              <a:rPr b="0" i="1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M. Garrouste ↔ Mme Al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Pour un écrit en  « simultané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Qui écrit à qui ? </a:t>
            </a:r>
            <a:br>
              <a:rPr sz="1600"/>
            </a:b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Mme Alice → à elle-mê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Et indirectement pour qui ? </a:t>
            </a:r>
            <a:br>
              <a:rPr sz="1600"/>
            </a:b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Le « spécialiste » de l’entrepri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Dans quels but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etranscrire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les propos </a:t>
            </a:r>
            <a:r>
              <a:rPr b="0" lang="fr-FR" sz="1600" spc="-1" strike="noStrike">
                <a:solidFill>
                  <a:srgbClr val="00b050"/>
                </a:solidFill>
                <a:latin typeface="Arial"/>
                <a:ea typeface="Arial"/>
              </a:rPr>
              <a:t>(prise de notes)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de M. Garrou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en sélectionnant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ce qui est utile au spécialiste (écoute sélectiv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Sur quel document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« Personnel » ou professionn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00160" y="1239840"/>
            <a:ext cx="444348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2. </a:t>
            </a:r>
            <a:r>
              <a:rPr b="1" lang="fr-FR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La reformulation des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Un écrit en « différé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Qui écrit à qui ? </a:t>
            </a:r>
            <a:br>
              <a:rPr sz="1600"/>
            </a:b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Mme Alice → le spécia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Dans quels but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apporter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les propos de M. Garrouste </a:t>
            </a:r>
            <a:r>
              <a:rPr b="0" lang="fr-FR" sz="1600" spc="-1" strike="noStrike">
                <a:solidFill>
                  <a:srgbClr val="00b050"/>
                </a:solidFill>
                <a:latin typeface="Arial"/>
                <a:ea typeface="Arial"/>
              </a:rPr>
              <a:t>(les discours rapporté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en les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réécrivant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b050"/>
                </a:solidFill>
                <a:latin typeface="Arial"/>
                <a:ea typeface="Arial"/>
              </a:rPr>
              <a:t>(procédés de reformulation des not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en les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organisant </a:t>
            </a: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et les </a:t>
            </a:r>
            <a:r>
              <a:rPr b="0" lang="fr-FR" sz="1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hiérarchis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afin que les demandes du particulier soient satisfai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Sur quels document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Arial"/>
                <a:ea typeface="Arial"/>
              </a:rPr>
              <a:t>Professionnels en respectant leur charte graphiqu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3920" y="365040"/>
            <a:ext cx="7759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900" spc="-1" strike="noStrike">
                <a:solidFill>
                  <a:srgbClr val="c00000"/>
                </a:solidFill>
                <a:latin typeface="Arial Black"/>
              </a:rPr>
              <a:t>Les objectifs d’apprentissag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Connecteur droit 2"/>
          <p:cNvSpPr/>
          <p:nvPr/>
        </p:nvSpPr>
        <p:spPr>
          <a:xfrm>
            <a:off x="4572000" y="1239840"/>
            <a:ext cx="0" cy="499752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e 8"/>
          <p:cNvGrpSpPr/>
          <p:nvPr/>
        </p:nvGrpSpPr>
        <p:grpSpPr>
          <a:xfrm>
            <a:off x="209520" y="6507000"/>
            <a:ext cx="8764560" cy="468000"/>
            <a:chOff x="209520" y="6507000"/>
            <a:chExt cx="8764560" cy="468000"/>
          </a:xfrm>
        </p:grpSpPr>
        <p:sp>
          <p:nvSpPr>
            <p:cNvPr id="523" name="ZoneTexte 9"/>
            <p:cNvSpPr/>
            <p:nvPr/>
          </p:nvSpPr>
          <p:spPr>
            <a:xfrm>
              <a:off x="209520" y="6516000"/>
              <a:ext cx="876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012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PNP Bac Pro Gestion-Administration – 10 et 11 mai 2012 – Lyon </a:t>
              </a: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	</a:t>
              </a:r>
              <a:fld id="{68E78E62-FBB7-4365-B7B1-42CE6502EA8E}" type="slidenum">
                <a:rPr b="1" lang="fr-FR" sz="1200" spc="-1" strike="noStrike">
                  <a:solidFill>
                    <a:srgbClr val="c0504d"/>
                  </a:solidFill>
                  <a:latin typeface="Calibri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Ellipse 10"/>
            <p:cNvSpPr/>
            <p:nvPr/>
          </p:nvSpPr>
          <p:spPr>
            <a:xfrm>
              <a:off x="8439120" y="6507000"/>
              <a:ext cx="387360" cy="339840"/>
            </a:xfrm>
            <a:prstGeom prst="ellipse">
              <a:avLst/>
            </a:prstGeom>
            <a:noFill/>
            <a:ln w="25560">
              <a:solidFill>
                <a:srgbClr val="7d86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ZoneTexte 5"/>
          <p:cNvSpPr/>
          <p:nvPr/>
        </p:nvSpPr>
        <p:spPr>
          <a:xfrm>
            <a:off x="1476360" y="1241280"/>
            <a:ext cx="67676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Arial Black"/>
              </a:rPr>
              <a:t>L’atelier rédactionn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Arial Black"/>
              </a:rPr>
              <a:t>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Arial Black"/>
              </a:rPr>
              <a:t>la maîtri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Arial Black"/>
              </a:rPr>
              <a:t>de la lan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e 6"/>
          <p:cNvGrpSpPr/>
          <p:nvPr/>
        </p:nvGrpSpPr>
        <p:grpSpPr>
          <a:xfrm>
            <a:off x="209520" y="6507000"/>
            <a:ext cx="8764560" cy="468000"/>
            <a:chOff x="209520" y="6507000"/>
            <a:chExt cx="8764560" cy="468000"/>
          </a:xfrm>
        </p:grpSpPr>
        <p:sp>
          <p:nvSpPr>
            <p:cNvPr id="527" name="ZoneTexte 7"/>
            <p:cNvSpPr/>
            <p:nvPr/>
          </p:nvSpPr>
          <p:spPr>
            <a:xfrm>
              <a:off x="209520" y="6516000"/>
              <a:ext cx="876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012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PNP Bac Pro Gestion-Administration – 10 et 11 mai 2012 – Lyon </a:t>
              </a:r>
              <a:r>
                <a:rPr b="0" lang="fr-FR" sz="1200" spc="-1" strike="noStrike">
                  <a:solidFill>
                    <a:srgbClr val="7d868d"/>
                  </a:solidFill>
                  <a:latin typeface="Calibri"/>
                </a:rPr>
                <a:t>	</a:t>
              </a:r>
              <a:fld id="{0EEC354A-C440-466D-A7E6-9B9F4C1C2715}" type="slidenum">
                <a:rPr b="1" lang="fr-FR" sz="1200" spc="-1" strike="noStrike">
                  <a:solidFill>
                    <a:srgbClr val="c0504d"/>
                  </a:solidFill>
                  <a:latin typeface="Calibri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Ellipse 8"/>
            <p:cNvSpPr/>
            <p:nvPr/>
          </p:nvSpPr>
          <p:spPr>
            <a:xfrm>
              <a:off x="8439120" y="6507000"/>
              <a:ext cx="387360" cy="339840"/>
            </a:xfrm>
            <a:prstGeom prst="ellipse">
              <a:avLst/>
            </a:prstGeom>
            <a:noFill/>
            <a:ln w="25560">
              <a:solidFill>
                <a:srgbClr val="7d86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1280" y="364680"/>
            <a:ext cx="835344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c00000"/>
                </a:solidFill>
                <a:latin typeface="Arial Black"/>
                <a:ea typeface="Arial"/>
              </a:rPr>
              <a:t>La prise de notes</a:t>
            </a:r>
            <a:r>
              <a:rPr b="1" lang="fr-FR" sz="40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000" y="1197000"/>
            <a:ext cx="7875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Bradley Hand ITC"/>
                <a:ea typeface="Arial"/>
              </a:rPr>
              <a:t>Appel. 12/03. 10h30. M. GARROUSTE (part.) dde infos : nvel extracteur fumées 4RT5 (vu sur site). Rappeler. URGT !  05 57 36 56 00.  Cde si bon prix installation. Pas client.  Adr. : GRADIGNAN(6 rue des Minimes). Pas d’appel le soir !!!  Dde si capteur fonctionne pour « barbecue intérieur garage 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020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 Black"/>
              </a:rPr>
              <a:t>Les procédés d’écriture des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68360" y="1244160"/>
            <a:ext cx="8136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a mise en page du texte: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ompac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’organisation et la hiérarchisation des informations :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u fil de la conver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 lexique :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bréviations codifiées ou non. Suppression de lettres à l’intérieur ou à la fin d’un mot + .  (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dde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M.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adr.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phrases :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tronquées et agrammaticales. Suppression des déterminants, des pronoms-reprises, de verbes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caractères des lettres :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majuscules pour les noms propres ou un message capi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signes typographiques :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(…)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: explicitation.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«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 citation 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»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, éventuellement, tirets pour l’énumé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•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Les signes de ponctuation :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!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(expressivité),  </a:t>
            </a:r>
            <a:r>
              <a:rPr b="0" lang="fr-F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:</a:t>
            </a:r>
            <a:r>
              <a:rPr b="0" i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(explication), le point pour la fin des mots abrégés ou la fin des phr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30:05Z</dcterms:created>
  <dc:creator>famille MAZOYER</dc:creator>
  <dc:description/>
  <dc:language>en-US</dc:language>
  <cp:lastModifiedBy>pat</cp:lastModifiedBy>
  <dcterms:modified xsi:type="dcterms:W3CDTF">2012-06-03T21:37:29Z</dcterms:modified>
  <cp:revision>40</cp:revision>
  <dc:subject/>
  <dc:title>Présentation PowerPoint</dc:title>
</cp:coreProperties>
</file>